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B9D-901D-4633-9659-9B8F065E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79E-78A9-46FD-B889-AD8BBB01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F52-3A3B-40DD-800C-78D2802A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58D-F06B-48DB-BA73-3C9EF728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F39-3F8E-46B2-A2F0-FF68DB2B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A63-1A4C-4B8D-BE6B-2749EAF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292-D289-4C05-AEDA-0FF15659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133-1653-4272-A831-4C11FCB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5FC-1627-49D9-AE31-D34C3615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610-C6A1-47C5-B081-984FFBD1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DDE-0700-4804-BF20-99E96F9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7E5-968C-4A46-9DBE-943EFE1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EC23-3854-42E3-BB2F-741E95D65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hat we learnt at DIT while implementing SWAN Scheme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n States/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Space for Setting up SWAN nodes in Districts and Talukas/ Blocks level off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Availability of space for Installation of the Last Mile equipment in the off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Ownership of the SWAN by Departments in Districts and Talukas/Blo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Provision of Stabilized Uninterrupted Power Supp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Connecting horizontal offices wherever it is part of SWAN RF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dministrativ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DPR/RFP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ormation of SWAN Committee with at lea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 or 2 Technical person (Network Expert, as suggested in the approv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SNL representative (to be ensu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dentification of PoP Locations ensuring possessions in reasonabl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easibility of the PoP with regards to conne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echnolog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inalization of Bill of Material (Vendor Neutrality, Open Standa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ite Preparation – Who does? What are the Terms &amp; Condi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Consultant as Technical Assistance provided in the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view of the technology/ architecture/ specifications suggested by the Consul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onitoring the work of consultant as per the Proposed timeli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Quality of deliverables and the Service Level Agreement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Bid Process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idder response - to be defined cl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Vendor  interactions - to be minimal and uni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echnical team composed for bid evaluation - to have clarity over the requirements of the project and Terms &amp; Conditions defined in R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Evaluation criteria's &amp; “Marking Schema” - to be as objective as possible and to be documented properly before starting of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Network Operator (after Lo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itial Mobilization of resources to meet the commitment (to be ensu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ployment of adequate qualified resources as per the commitment (to be ensu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dherence to the Service Level Agreement during the implementation &amp; operation and proposed tim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Implementa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ossession  of the Sites (almost always delay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SNL connectivity – State/UT intervention almost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livery of equipment on time to the respective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tallation of the equipment and Co-ordination with the State IT Department and BSNL for lease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paration of IP Schema keeping State NIC in lo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y change in the Bill Of Material (BoM) to be scrutinized and approved very carefu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tallation of Power and separate meter (nothing happens if State/UT does not interve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Third Party Auditor (TP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lay in Identifying TPA although DIT sent the Empanelled list in April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lear Identification of Roles and Responsibility and function of T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ployment of adequate and qualified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PA report format finalization (has to be vetted by State/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ormat of TPA reporting – to be finalized in consultation with the State/ Consultant/ Network Oper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FAT of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tallation of all the equipment as per the B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ocumentation (to be post-facto audited by TPA agen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ventory Management (to be post-facto audited by TPA agen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pection of the 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ll equipment properly configured and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maintenance of equipment including physical &amp;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eriodic review of rules &amp; policy defined for SW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monitoring of bandwidth availability reports generated using SWAN NMS (to ensure CIR by the Bandwidth Service Provi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interaction with Bandwidth Service Provider (BSP) to ensure 100% up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dherence to security policy &amp; guidelines issued by Go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State/UT level SWAN Committee meeting (required for financial clearance from D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4:51:01Z</dcterms:created>
  <dc:creator>-</dc:creator>
  <dc:description/>
  <dc:language>en-US</dc:language>
  <cp:lastModifiedBy>Saptarshi Sanyal</cp:lastModifiedBy>
  <dcterms:modified xsi:type="dcterms:W3CDTF">2014-03-10T06:40:58Z</dcterms:modified>
  <cp:revision>45</cp:revision>
  <dc:subject/>
  <dc:title>Slide 1</dc:title>
</cp:coreProperties>
</file>